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FB5-ACCB-429C-8A9A-7FF0DFBF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A54-87A4-4300-975E-D652E313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215-D8A2-4808-90AD-76764B15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8BE-6BBB-454D-BCD6-044CD5AA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304-8F29-461E-B4B4-9504B801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C9C2-F7E8-4C9D-B97F-3D92682C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D833-7570-40AB-BD0F-E7ACF2A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071-A7F2-4581-99FE-F7D79FD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7B6E-4E7A-4C3F-BD55-3ED7389C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3C5F-9518-4FF0-976E-9FD0BAF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8CBE-4D55-4267-A6CA-99F2160D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426-964F-4F59-85FD-45CDCA8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7C1-E1A8-45D0-BFC5-36C1ED4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8997-FFF7-4D4E-A5B5-5165B71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D60F-3608-499B-9965-10C8DAC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7474-2E41-494F-8066-F3158439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E04E-40EC-4322-89FC-51D58A72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F254-6AA1-472B-B3E4-C9ED174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6D24-3B86-435D-A002-B0C8BD6F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95DB-878A-4D09-A624-26A52FA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6BCC-81E1-4EFB-A40D-A3E30DDF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EF86-A43D-437F-893E-36AAD048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22D-141C-4325-A2E1-9307B77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578F-5641-4D0F-8466-E63C780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278F-43C1-4378-A2FC-0EAB8C4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B22E-B26A-4420-A06F-540D6934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1671-75C8-4373-85F8-9A8ED88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B10C-44F3-4612-BA31-7758079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56E2-FA1E-4273-A517-5F592B90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434D-8FA3-43D1-B6DE-75C4D5A8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C14D-606F-43B8-A61F-54B39509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E908-5488-4398-9760-73CA4C62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BDDF-FE29-425A-94FF-02141BF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10F-BB88-49AF-8497-FB2FF44A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0F8C-0D7F-4281-9373-31E5907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D73C-B65C-42E5-9DEC-8130A7AA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CABF-6B57-40EC-BAD8-809AD42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EA05-4D80-4E83-91CD-D929217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E9D7C-7CF6-4F6D-9317-65BFA4C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8C33-D93D-46B3-9096-A8ABF19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BB33-8C67-4AB7-9EB7-96D3187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9E69-5627-477D-90C4-2CC469BE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B73F-C407-46B1-9080-53093C33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0FF2-C0D5-4B6D-9033-3282BB3E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B5D-A697-46A9-801C-BE93FCE4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8485-2C21-410D-AD7E-D3F74450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613F-DA29-488B-873B-54D0DBF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E074-D1FC-49F3-91E8-B9256012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33E7-AEA1-46B8-A91F-A715E07D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487A-83EB-4088-BC61-A272D7E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63B6-5782-4266-91BD-3BF2B5B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01A8-4D9E-4237-A171-A47D626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BC3D-8696-4802-9C8A-8DB10E0B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38A9-51B1-4BD4-8241-67D260B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719A-B785-42BD-93A4-7A747AD4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1F9-69DF-47A3-85E3-7FF13E96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D4AD-A54F-4491-9F06-A6283F5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35F3-BD50-4837-BC85-1E0CC9CF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BA8A-23B0-40A4-83B0-3EDC96D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3CB7-0DF0-4DA4-8735-3F35B3B0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762C-1A70-4E7E-B5A2-7F75F72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407D-21B5-4849-A82F-224A2F6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60750-17AA-4C8C-A660-9A7023AB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9F5A-298E-4721-A465-0781FFD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95BD-6D81-47B6-A637-6A38F9E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34222-8784-4E09-A8E1-28B2E8B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050-78FF-47AE-8205-FE89DA1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CA56-5E04-46C1-972E-7963A01A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ABBF3-1DD4-49EF-A576-6B466D4F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7F87-0765-4CDB-BF53-D059CD54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E0BE-CC44-4DED-B61D-A526995D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9387-5A7A-4F91-9A50-EC9AF17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8856-C7BF-45F6-B614-15DFE81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99F2F-A07F-45B3-AADA-6785B40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470A-A01F-42BC-88C1-10575FF6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0651-76DD-4BCD-92D9-0EFD481D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51739-2683-4290-823D-B7378A0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EEE-750B-4898-8162-08334AB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6A854-BCC5-4F86-BC0A-4593BAE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04AA-FF09-40D6-80FA-C656A30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7419-10DD-426F-91D1-017EA1F1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DD18-6B44-428D-BD00-2B219142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0114-4E3F-423E-BDE9-3AB6DABD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CF37-A039-49BF-8109-A7FB7576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A8F4C-43C4-4A8C-B170-68D8068E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642C-149E-48F3-8AA8-475407B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5E325-C8B0-40BA-8AF9-529D09DB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EB0F-F70D-4A8B-AA84-A5CD9B94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65F-7DC8-4510-B7BF-F711055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B3CEF-FC25-4CA1-8CA1-3506800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B0F9-D4A3-4A69-A46F-7958586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9CDDA-831A-4F23-92E9-1E54FAD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BA77-BE45-4ABD-A872-14E5AEB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CC51-61D9-430F-92BD-6C193FF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5DB3-18F2-4C57-93D1-B50CDD7F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2D15-9151-4930-AFD1-D3B415D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AC1-0910-4B51-8A04-CB3AEE2BD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9CA-3C0C-4886-AF5C-C66B400D37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0D1-9D09-41F5-A3E4-1A07CFAC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562-7A38-4407-A234-DA036F613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333-E0DE-44DF-8C49-92C4387B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621-D2E0-468C-B3D9-21F7D906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DB7-5DD0-4CB6-890C-FD00F9D9A8C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929-4D7B-42B7-9E59-E98DD27C653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5c9c"/>
                </a:solidFill>
                <a:latin typeface="Bell MT"/>
              </a:rPr>
              <a:t>The Oral History of Private Rutger Evans</a:t>
            </a:r>
            <a:endParaRPr b="0" lang="en-US" sz="6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Told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Danielle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Wol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With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help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Alex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Garthrite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Megan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Murphy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Allison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Hartma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4345414669_212c3dd19e_m"/>
          <p:cNvPicPr/>
          <p:nvPr/>
        </p:nvPicPr>
        <p:blipFill>
          <a:blip r:embed="rId2"/>
          <a:stretch/>
        </p:blipFill>
        <p:spPr>
          <a:xfrm>
            <a:off x="762120" y="60948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4345414687_1603052ede_m"/>
          <p:cNvPicPr/>
          <p:nvPr/>
        </p:nvPicPr>
        <p:blipFill>
          <a:blip r:embed="rId3"/>
          <a:stretch/>
        </p:blipFill>
        <p:spPr>
          <a:xfrm>
            <a:off x="3276720" y="1219320"/>
            <a:ext cx="1550880" cy="2095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4345414309_66075491f1_m"/>
          <p:cNvPicPr/>
          <p:nvPr/>
        </p:nvPicPr>
        <p:blipFill>
          <a:blip r:embed="rId4"/>
          <a:stretch/>
        </p:blipFill>
        <p:spPr>
          <a:xfrm>
            <a:off x="990720" y="3962520"/>
            <a:ext cx="3352680" cy="2216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4346157878_5f6473e683_m"/>
          <p:cNvPicPr/>
          <p:nvPr/>
        </p:nvPicPr>
        <p:blipFill>
          <a:blip r:embed="rId5"/>
          <a:stretch/>
        </p:blipFill>
        <p:spPr>
          <a:xfrm>
            <a:off x="5257800" y="609480"/>
            <a:ext cx="3048120" cy="2324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4345414377_05b3026aab_m"/>
          <p:cNvPicPr/>
          <p:nvPr/>
        </p:nvPicPr>
        <p:blipFill>
          <a:blip r:embed="rId6"/>
          <a:stretch/>
        </p:blipFill>
        <p:spPr>
          <a:xfrm>
            <a:off x="5105520" y="4038480"/>
            <a:ext cx="30477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9" descr="4345414345_7df9030b6a_m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2430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4346157560_16a4fca9cb_m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4346157896_ede9596cd6_m"/>
          <p:cNvPicPr/>
          <p:nvPr/>
        </p:nvPicPr>
        <p:blipFill>
          <a:blip r:embed="rId3"/>
          <a:stretch/>
        </p:blipFill>
        <p:spPr>
          <a:xfrm>
            <a:off x="4724280" y="838080"/>
            <a:ext cx="3353040" cy="2414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4346157548_5959cc96ac_m"/>
          <p:cNvPicPr/>
          <p:nvPr/>
        </p:nvPicPr>
        <p:blipFill>
          <a:blip r:embed="rId4"/>
          <a:stretch/>
        </p:blipFill>
        <p:spPr>
          <a:xfrm>
            <a:off x="5029200" y="3962520"/>
            <a:ext cx="2971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4345414291_cbb02c59e8_m"/>
          <p:cNvPicPr/>
          <p:nvPr/>
        </p:nvPicPr>
        <p:blipFill>
          <a:blip r:embed="rId1"/>
          <a:stretch/>
        </p:blipFill>
        <p:spPr>
          <a:xfrm>
            <a:off x="5029200" y="4038480"/>
            <a:ext cx="3048120" cy="201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345414277_526521ed94_m"/>
          <p:cNvPicPr/>
          <p:nvPr/>
        </p:nvPicPr>
        <p:blipFill>
          <a:blip r:embed="rId2"/>
          <a:stretch/>
        </p:blipFill>
        <p:spPr>
          <a:xfrm>
            <a:off x="4724280" y="114300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4346157602_c5ca692879_m"/>
          <p:cNvPicPr/>
          <p:nvPr/>
        </p:nvPicPr>
        <p:blipFill>
          <a:blip r:embed="rId3"/>
          <a:stretch/>
        </p:blipFill>
        <p:spPr>
          <a:xfrm>
            <a:off x="914400" y="990720"/>
            <a:ext cx="2971800" cy="2055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4345414619_d5933daa33_m"/>
          <p:cNvPicPr/>
          <p:nvPr/>
        </p:nvPicPr>
        <p:blipFill>
          <a:blip r:embed="rId4"/>
          <a:stretch/>
        </p:blipFill>
        <p:spPr>
          <a:xfrm>
            <a:off x="762120" y="3809880"/>
            <a:ext cx="30477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4346157908_c439973687_m"/>
          <p:cNvPicPr/>
          <p:nvPr/>
        </p:nvPicPr>
        <p:blipFill>
          <a:blip r:embed="rId1"/>
          <a:stretch/>
        </p:blipFill>
        <p:spPr>
          <a:xfrm>
            <a:off x="4800600" y="685800"/>
            <a:ext cx="3733920" cy="2660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4346157948_1c5b3ec861_m"/>
          <p:cNvPicPr/>
          <p:nvPr/>
        </p:nvPicPr>
        <p:blipFill>
          <a:blip r:embed="rId2"/>
          <a:stretch/>
        </p:blipFill>
        <p:spPr>
          <a:xfrm>
            <a:off x="762120" y="3886200"/>
            <a:ext cx="3047760" cy="2095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4346157976_3041a58516_m"/>
          <p:cNvPicPr/>
          <p:nvPr/>
        </p:nvPicPr>
        <p:blipFill>
          <a:blip r:embed="rId3"/>
          <a:stretch/>
        </p:blipFill>
        <p:spPr>
          <a:xfrm>
            <a:off x="838080" y="1066680"/>
            <a:ext cx="3200400" cy="2106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4346157510_d465a8d65b_m"/>
          <p:cNvPicPr/>
          <p:nvPr/>
        </p:nvPicPr>
        <p:blipFill>
          <a:blip r:embed="rId4"/>
          <a:stretch/>
        </p:blipFill>
        <p:spPr>
          <a:xfrm>
            <a:off x="4876920" y="3962520"/>
            <a:ext cx="300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3244253505_564306f466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3251115323_5fa4a6d67f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3:17:35Z</dcterms:created>
  <dc:creator>Information Technology</dc:creator>
  <dc:description/>
  <dc:language>en-US</dc:language>
  <cp:lastModifiedBy>Information Technology</cp:lastModifiedBy>
  <dcterms:modified xsi:type="dcterms:W3CDTF">2010-02-17T14:59:03Z</dcterms:modified>
  <cp:revision>7</cp:revision>
  <dc:subject/>
  <dc:title> </dc:title>
</cp:coreProperties>
</file>